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7837-21F6-4489-90E1-30D28F678A10}" type="datetime">
              <a:rPr b="0" lang="en-US" sz="1200" spc="-1" strike="noStrike">
                <a:solidFill>
                  <a:srgbClr val="000000"/>
                </a:solidFill>
                <a:latin typeface="Arial"/>
                <a:ea typeface="ＭＳ Ｐゴシック"/>
              </a:rPr>
              <a:t>07/29/26</a:t>
            </a:fld>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ABA3-A44A-4C42-8B45-58B6565EC73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llo, Ich heisse Noah Taylor. Ich bin 16 Jahre alt. Ich wohne in Sarasota Florida America und mein Kandidatnummer ist 7194 0923. Der Thema des Quartals is von die Umwelt. Heute spreche ich über die Auswirkungen des Klimawandel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A3B8-F698-4FC6-B437-9525CF3515D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h habe dies gemacht. Mein information kommt von die erste drei….  Und meine Bilder kommt von die zweite drei….</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3DB0-1C7C-4AF0-833D-E65861DBB5AC}"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scription: Die Person im Auto fährt durch den Schnee. Das Auto rutscht auf der Strasse. Die Person sagt „Ach! Nein!”, weil das Auto rutsch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pretation: Es schneit viel, weil der Klimawandel existiert. Die Deutsche haben zum Klimawandel beigetragen. Autounfälle passieren viel, weil Klimawandel ein Problem is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alysis: Der Klimawandel ist eine negative Erscheinung. Es zerstört die Natur. Es wird jedoch Tourismus erhöher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stions: Was denkst du über Klimawandel? Ich denke, dass Klimawandel schlecht ist. Ich habe wandern und skilaufen gern. Ich kann diese Aktivitäten nicht machen, weil es zu heiss ist. Wie ändert Klimawandel die Natur? Klimawandel ist schlecht, weil es die Temperatur erhöht. Es macht auch Dürre und Überschwemmungen. Sie können die Natur zerstören. Wie bezieht sich Klimawandel auf Kultur? Kultur ist allumfassend. Wir müssen alles betrachten, wenn wir über Kultur sprechen. Wenn die Umwelt schlecht ist, sind die Leute und das Kultur in Unordnung.</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escription: The person in the car drives through the snow. The car slips on the road. The person says “Oh! NO!” because the car slip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pretation: It snows a lot because climate change exists. Germans have contributed to climate change. Car accidents happen a lot because climate change is a proble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alysis: Climate change is a negative phenomenon. It destroys nature. It will, however, increase touris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stions: What do you think about climate change? I think that climate change is bad. I like to hike and ski. I cannot do these activities while it is too hot. How does climate change alter nature? Climate change is bad because it increases the temperature. It creates droughts and floods. They can destroy nature. How does this relate to culture? Culture is all-encompassing. We must consider everything when we talk about culture. When the environment is bad the people and the culture are in chaos.</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weltschäden Der Klimawandel ist nicht gut. Es zerstört die Umwelt. Es ist sehr furchtbar. Der Klimawandel erhöht die Temeratur einem Grad und wird vier mehr Grade erhöhern. Es macht die Gletscher kleiner. Das macht viel mehr Sclamm. Der Sclamm zerstört Dörfer.</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F434-E8E7-459A-97EE-9EBB07D1344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hr von Umweltschäden. Es regnet nicht so viel im Norden, weil der Klimawandel. Es macht Dürre im Norden. Es schneit jetzt viel im Winter. Der Klimawandel hat Landwirtschaft viel beeinflusst. Die Bauern können ihrem Tiere nicht futtern, weil Klimawandel existier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85A3-0573-4FAE-828F-BABBC19FD4BF}"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mographische Schaden. Mit warmes Wetter, gibt es mehr Keime. Sie lieben das warme Wetter. Sie sind sehr klein und eine Menge von Ihnen sind tödlich. Viele mehr Leute sind von Ihnen getötet, weil Klimawandel ist streng.</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9F54-4E2D-446B-8D6D-F3452C27AB9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stoß Themen. Klimawandel kommt aus Schadstoffen. Sie kommt aus Brennstoffen. Die Leute verbrennt die Brennstoffen viel im Deutschland. Die Deutsche werden die Brenstoffen nicht verbrennen. Sie werden Kohle nicht verbrennen. </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6C38-1D99-49E5-AE14-88A99188156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gative Auswirkungen. Klimawandel ist wirklich schlecht. Es macht mehr Krankheiten von die Hitze. Diese Krankheiten kommen von Keime. Klimawandel macht viele Hochwasser und Waldbrände. Sie sind sehr schädlich.</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068F-15DC-4034-A4C3-0E47CD872242}"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limawandelgibt auch positive Auswirkungen. Die größte ist der Anstieg in Tourismus. Viele Leute werden nach die Strände von Deutschland gehen. Das macht Geld für die Regierung. Das ist sehr gut. Es wird auch mehr Nutzpflanzen mache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5E62-C6D0-492D-B23B-08B09F82FFD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ragen. Habt ihr mir gehört? Eins. Wie viel hast die Temperatur geändert? A. Ein Grad B. 12 Grade oder C. 3 Grade? Und, welches Wirtschaft profitieren von Klimawandel? A. Die Kohlewirtschaft B. Tourismus oder C. Musik?</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E903-8F94-48A7-B961-0E88FE6EF62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antworten. Eins war A, weil das was ich gesagt habe ist. Und Zwei war B, weil die Temperatur erhöht. Viele Leute wird Nach die Strände gehen.</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0DFD-0BE1-4B72-8D57-CEC38E9966C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7DC2C-A1AB-4C1E-93A0-4B56FADB6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464BE-ECB0-4DE6-B63F-CC70D66CF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7F68F-1FB3-418E-AD6E-42DB3374D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1FA33-CAE7-45F9-9EFC-5726DB53C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23CE6-1325-48B0-AF9F-21EAB74F7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B1030-88BF-42FD-A6F9-9FEF1A975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344C2-B69F-4E2F-A3E6-96BC7C432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936D8-D87F-4D87-A459-2BC3E06B9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BF2C5-C6E0-4595-9049-1CF617B43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02BC7-B8D4-48F3-A48F-C0E147EFF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81C93-9848-4435-8E20-547F91CD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84B29-FC18-4121-96CF-BC200A48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2464-5744-404B-B0F6-4C6590156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6493C-9E67-4A36-AD4D-71F013205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80C7F-1CC2-452C-87FA-004427316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7BE72-AFC8-4FEA-BB6E-F5F85FB4A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AE9DB-F148-460E-86FE-001478C0F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E4BA-C86B-49AB-AD19-3F65C3F4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B5E26-C11A-496D-A575-E969E1F4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5552D-0253-4B73-A89E-0B99B4E5B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0AD9D-E8D6-4FDA-AF25-35C5DC949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4150-848A-4C40-AAE4-31DC3151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ADC9C-92B7-4A78-BBE1-CBAD50091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8A2F8-FDD1-4E37-AB57-ACD620D94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1442-75D8-400E-82C8-7D724D2076A8}" type="datetime">
              <a:rPr b="0" lang="en-US" sz="1400" spc="-1" strike="noStrike">
                <a:solidFill>
                  <a:srgbClr val="000000"/>
                </a:solidFill>
                <a:latin typeface="Times New Roman"/>
                <a:ea typeface="ＭＳ Ｐゴシック"/>
              </a:rPr>
              <a:t>07/29/26</a:t>
            </a:fld>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9618-D330-4FC9-9069-1AE5339BD10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4D3C-1C0C-47D2-946A-B6A6B83CC085}" type="datetime">
              <a:rPr b="0" lang="en-US" sz="1400" spc="-1" strike="noStrike">
                <a:solidFill>
                  <a:srgbClr val="ffffff"/>
                </a:solidFill>
                <a:latin typeface="Times New Roman"/>
                <a:ea typeface="ＭＳ Ｐゴシック"/>
              </a:rPr>
              <a:t>07/29/26</a:t>
            </a:fld>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E126-9990-453A-8768-05E3321C7F1B}"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foei.org/en/who-we-are/testimonies/europe/antj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Issues: The Effects of Climate Change</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4113360"/>
            <a:ext cx="6400800" cy="175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Noah Taylor</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I created this presentation.</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cc"/>
                </a:solidFill>
                <a:uFillTx/>
                <a:latin typeface="Times New Roman"/>
                <a:hlinkClick r:id="rId1"/>
              </a:rPr>
              <a:t>http://www.foei.org/en/who-we-are/testimonies/europe/antje</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goodentrepreneur.com/Knowledge/Features/Germany-Climate-Change-Profile</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spiegel.de/international/germany/0,1518,576078,00.html</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Pictures:</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human-healths.com/lyme-disease-lyme-borreliosis/lyme-disease-lyme-borreliosis.php</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sflorg.com/earthnews/en041306_01.html</a:t>
            </a:r>
            <a:endParaRPr b="0" lang="en-US" sz="2500" spc="-1" strike="noStrike">
              <a:solidFill>
                <a:srgbClr val="ffffff"/>
              </a:solidFill>
              <a:latin typeface="Times New Roman"/>
            </a:endParaRPr>
          </a:p>
          <a:p>
            <a:pPr marL="343080" indent="-343080">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http://www.novinite.com/view_news.php?id=103120</a:t>
            </a:r>
            <a:endParaRPr b="0" lang="en-US" sz="25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Picture 12" descr="quarter 3 Culture image"/>
          <p:cNvPicPr/>
          <p:nvPr/>
        </p:nvPicPr>
        <p:blipFill>
          <a:blip r:embed="rId1"/>
          <a:stretch/>
        </p:blipFill>
        <p:spPr>
          <a:xfrm>
            <a:off x="457200" y="1144440"/>
            <a:ext cx="8229600" cy="460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Damag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has been an average increase in temperature of around 1</a:t>
            </a:r>
            <a:r>
              <a:rPr b="0" lang="en-US" sz="2800" spc="-1" strike="noStrike">
                <a:solidFill>
                  <a:srgbClr val="ffffff"/>
                </a:solidFill>
                <a:latin typeface="Times New Roman"/>
                <a:ea typeface="Arial"/>
              </a:rPr>
              <a:t>°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average temperature is predicted to increase up to 4°C in the next cent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lpine glaciers have melted to 80% of their size 20 years ago.</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number of mudslides and avalanches have increased as wel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Some mudslides and avalanches have destroyed houses and villag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nvironmental Damage Con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mount of rainfall has also been affected greatly by climate chang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more rain and snow in the winter than ev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the northern portion of Germany experiences drought more frequent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has greatly affected agricultural production.</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graphic Damage</a:t>
            </a:r>
            <a:endParaRPr b="1" lang="en-US" sz="4400" spc="-1" strike="noStrike">
              <a:solidFill>
                <a:srgbClr val="feec94"/>
              </a:solidFill>
              <a:latin typeface="Times New Roman"/>
            </a:endParaRPr>
          </a:p>
        </p:txBody>
      </p:sp>
      <p:sp>
        <p:nvSpPr>
          <p:cNvPr id="134" name=""/>
          <p:cNvSpPr txBox="1"/>
          <p:nvPr/>
        </p:nvSpPr>
        <p:spPr>
          <a:xfrm>
            <a:off x="457200" y="1599840"/>
            <a:ext cx="4038480" cy="4530600"/>
          </a:xfrm>
          <a:prstGeom prst="rect">
            <a:avLst/>
          </a:prstGeom>
          <a:noFill/>
          <a:ln w="0">
            <a:noFill/>
          </a:ln>
        </p:spPr>
        <p:txBody>
          <a:bodyPr anchor="t">
            <a:normAutofit fontScale="97000"/>
          </a:bodyPr>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crease in rain puts stress on sewage and water management systems controlled by local government.</a:t>
            </a:r>
            <a:endParaRPr b="0" lang="en-US" sz="2400" spc="-1" strike="noStrike">
              <a:solidFill>
                <a:srgbClr val="ffffff"/>
              </a:solidFill>
              <a:latin typeface="Times New Roman"/>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er weather has increased the number of deadly viruses present in Germany.</a:t>
            </a:r>
            <a:endParaRPr b="0" lang="en-US" sz="2400" spc="-1" strike="noStrike">
              <a:solidFill>
                <a:srgbClr val="ffffff"/>
              </a:solidFill>
              <a:latin typeface="Times New Roman"/>
            </a:endParaRPr>
          </a:p>
          <a:p>
            <a:pPr marL="332640" indent="-3326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illnesses include malaria, the dengue fever, and Lyme disease.</a:t>
            </a:r>
            <a:endParaRPr b="0" lang="en-US" sz="2400" spc="-1" strike="noStrike">
              <a:solidFill>
                <a:srgbClr val="ffffff"/>
              </a:solidFill>
              <a:latin typeface="Times New Roman"/>
            </a:endParaRPr>
          </a:p>
        </p:txBody>
      </p:sp>
      <p:sp>
        <p:nvSpPr>
          <p:cNvPr id="13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7" descr=""/>
          <p:cNvPicPr/>
          <p:nvPr/>
        </p:nvPicPr>
        <p:blipFill>
          <a:blip r:embed="rId1"/>
          <a:srcRect l="13152" t="0" r="28432" b="474"/>
          <a:stretch/>
        </p:blipFill>
        <p:spPr>
          <a:xfrm>
            <a:off x="4648320" y="1523880"/>
            <a:ext cx="4038480" cy="467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mission Related Issues</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climate change in Germany comes from the emission on greenhouse gas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erman government believes that emissions should be cut by 40% by 202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n be cut by halting the use of coal in energy produ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ould also reduce the environmental degradation of mining.</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gative Effects</a:t>
            </a:r>
            <a:endParaRPr b="1" lang="en-US" sz="4400" spc="-1" strike="noStrike">
              <a:solidFill>
                <a:srgbClr val="feec94"/>
              </a:solidFill>
              <a:latin typeface="Times New Roman"/>
            </a:endParaRPr>
          </a:p>
        </p:txBody>
      </p:sp>
      <p:sp>
        <p:nvSpPr>
          <p:cNvPr id="140"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heat related illnesses arise from climate chang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flooding, heat waves, and possibly tornadoes are a resul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 change increases the possibility of forest fires.</a:t>
            </a:r>
            <a:endParaRPr b="0" lang="en-US" sz="2800" spc="-1" strike="noStrike">
              <a:solidFill>
                <a:srgbClr val="ffffff"/>
              </a:solidFill>
              <a:latin typeface="Times New Roman"/>
            </a:endParaRPr>
          </a:p>
        </p:txBody>
      </p:sp>
      <p:sp>
        <p:nvSpPr>
          <p:cNvPr id="141" name=""/>
          <p:cNvSpPr txBox="1"/>
          <p:nvPr/>
        </p:nvSpPr>
        <p:spPr>
          <a:xfrm>
            <a:off x="4495680" y="1676160"/>
            <a:ext cx="4191120" cy="4119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2" name="Picture 6" descr=""/>
          <p:cNvPicPr/>
          <p:nvPr/>
        </p:nvPicPr>
        <p:blipFill>
          <a:blip r:embed="rId1"/>
          <a:srcRect l="25657" t="0" r="2396" b="-625"/>
          <a:stretch/>
        </p:blipFill>
        <p:spPr>
          <a:xfrm>
            <a:off x="4495680" y="1676520"/>
            <a:ext cx="4191120" cy="419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itive Effects</a:t>
            </a:r>
            <a:endParaRPr b="1" lang="en-US" sz="4400" spc="-1" strike="noStrike">
              <a:solidFill>
                <a:srgbClr val="feec94"/>
              </a:solidFill>
              <a:latin typeface="Times New Roman"/>
            </a:endParaRPr>
          </a:p>
        </p:txBody>
      </p:sp>
      <p:sp>
        <p:nvSpPr>
          <p:cNvPr id="1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may be higher agricultural yields in Northern German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will be fewer cold related illness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ourism business in Germany will boom, especially around the coast.</a:t>
            </a:r>
            <a:endParaRPr b="0" lang="en-US" sz="2800" spc="-1" strike="noStrike">
              <a:solidFill>
                <a:srgbClr val="ffffff"/>
              </a:solidFill>
              <a:latin typeface="Times New Roman"/>
            </a:endParaRPr>
          </a:p>
        </p:txBody>
      </p:sp>
      <p:sp>
        <p:nvSpPr>
          <p:cNvPr id="1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6" name="Picture 7" descr=""/>
          <p:cNvPicPr/>
          <p:nvPr/>
        </p:nvPicPr>
        <p:blipFill>
          <a:blip r:embed="rId1"/>
          <a:srcRect l="5574" t="0" r="25482" b="702"/>
          <a:stretch/>
        </p:blipFill>
        <p:spPr>
          <a:xfrm>
            <a:off x="4648320" y="1523880"/>
            <a:ext cx="4033800" cy="464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has the temperature changed so far?</a:t>
            </a:r>
            <a:endParaRPr b="0" lang="en-US" sz="28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C</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F</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C</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industry will be positively affected by climate change?</a:t>
            </a:r>
            <a:endParaRPr b="0" lang="en-US" sz="28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ining Industry</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urism Industry</a:t>
            </a:r>
            <a:endParaRPr b="0" lang="en-US" sz="2400" spc="-1" strike="noStrike">
              <a:solidFill>
                <a:srgbClr val="ffffff"/>
              </a:solidFill>
              <a:latin typeface="Times New Roman"/>
            </a:endParaRPr>
          </a:p>
          <a:p>
            <a:pPr lvl="2" marL="1371600" indent="-457200">
              <a:spcBef>
                <a:spcPts val="601"/>
              </a:spcBef>
              <a:buClr>
                <a:srgbClr val="cccc00"/>
              </a:buClr>
              <a:buSzPct val="60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usic Industr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swers</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B.</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03:51:50Z</dcterms:created>
  <dc:creator>SCSadmin</dc:creator>
  <dc:description/>
  <dc:language>en-US</dc:language>
  <cp:lastModifiedBy>Noah Taylor</cp:lastModifiedBy>
  <dcterms:modified xsi:type="dcterms:W3CDTF">2012-03-19T05:18:35Z</dcterms:modified>
  <cp:revision>10</cp:revision>
  <dc:subject/>
  <dc:title>Environmental Issues: The Effects of Climate Change</dc:title>
</cp:coreProperties>
</file>